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4.png" ContentType="image/pn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1543-29A4-43F0-8C34-D6C7784D2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2DDF-97A4-4663-A86F-ACB73595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D7CF-D030-4E08-8998-0AA645BCA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6E94-D8B0-4038-A0B6-CB38F1E2F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3C2D-821E-4AA3-93CA-D7824D68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99AF-99EA-484A-892B-1C1F3CE4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553E-C739-4256-88CF-6595F07B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AFFA-9671-4E67-B9B4-4FD00CAC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4FBF-439B-4F32-9BD5-313542AF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1785-1B7E-4EDE-B686-BF0248C8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036B-7E16-4D5B-8B51-35B9B371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59D1-6B2B-4623-833C-1EAE9DBB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5600-E4ED-4B5B-8ACF-0CA41663E2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tarpulse.com/Movies/Boondock_Saints,_The/gallery/BOONDOCKBH003/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allmoviephoto.com/photo/edward_norton_american_history_x_002.html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bulldogbreeds.com/dog/display_photo.jsp?pic=/englishbulldog/large/english_bulldog_366676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nicholasacademy.com/usflags/arkansas.gif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nicholasacademy.com/usflags/ohio.gif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://nicholasacademy.com/usflags/missouri.gif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tarpulse.com/Television/Rob_&amp;_Big/gallery/Rob-Big-tv-07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28800" y="1676520"/>
            <a:ext cx="52578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ryn Hu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0" y="0"/>
            <a:ext cx="91440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y favorite subject is socal studies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914400" y="685800"/>
            <a:ext cx="7334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 my spare time i hang out  at the YMCA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752480" y="1905120"/>
            <a:ext cx="52578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Y.M.C.A.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Boondock-Saints-bh0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133720"/>
            <a:ext cx="3352680" cy="3886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Edward Norton in American History X 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14800" y="1752480"/>
            <a:ext cx="5029200" cy="3375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380880" y="380880"/>
            <a:ext cx="7543800" cy="12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 Black"/>
              </a:rPr>
              <a:t>my favorite movies are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267080" y="5181480"/>
            <a:ext cx="46576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merican history 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6095880"/>
            <a:ext cx="41054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boondock saints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France Fla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1981080" y="838080"/>
            <a:ext cx="53722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 place i want to go to is fra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304920" y="0"/>
            <a:ext cx="85867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y favorite type of dogs are bulldog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752480" y="0"/>
            <a:ext cx="54198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my favorite number is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124080" y="2438280"/>
            <a:ext cx="28195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88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2900520" y="2378160"/>
          <a:ext cx="3342960" cy="2101680"/>
        </p:xfrm>
        <a:graphic>
          <a:graphicData uri="http://schemas.openxmlformats.org/drawingml/2006/table">
            <a:tbl>
              <a:tblPr/>
              <a:tblGrid>
                <a:gridCol w="3342960"/>
              </a:tblGrid>
              <a:tr h="21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2909880" y="2387520"/>
          <a:ext cx="3324240" cy="2102040"/>
        </p:xfrm>
        <a:graphic>
          <a:graphicData uri="http://schemas.openxmlformats.org/drawingml/2006/table">
            <a:tbl>
              <a:tblPr/>
              <a:tblGrid>
                <a:gridCol w="3324240"/>
              </a:tblGrid>
              <a:tr h="237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762120" y="0"/>
            <a:ext cx="74581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my favotite candy is starburst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Foghorn Leghor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609480" y="0"/>
            <a:ext cx="77724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y favorite loony toons caractor is foghorn leghorn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752480" y="0"/>
            <a:ext cx="53247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 like to play basebal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93" name="" descr="Sunday, April 13, 2008.Copyright James Schammerhorn/Ostatephoto.co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1752480" y="5581800"/>
            <a:ext cx="582948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prstDash val="lgDash"/>
                  <a:miter/>
                </a:ln>
                <a:solidFill>
                  <a:srgbClr val="000000"/>
                </a:solidFill>
                <a:latin typeface="Arial Black"/>
              </a:rPr>
              <a:t>i like to watch baseball</a:t>
            </a:r>
            <a:endParaRPr b="0" lang="en-US" sz="1800" spc="1" strike="noStrike">
              <a:ln w="9360">
                <a:solidFill>
                  <a:srgbClr val="ffffff"/>
                </a:solidFill>
                <a:prstDash val="lgDash"/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23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876840" y="2346480"/>
          <a:ext cx="1390320" cy="1525320"/>
        </p:xfrm>
        <a:graphic>
          <a:graphicData uri="http://schemas.openxmlformats.org/drawingml/2006/table">
            <a:tbl>
              <a:tblPr/>
              <a:tblGrid>
                <a:gridCol w="1390320"/>
              </a:tblGrid>
              <a:tr h="180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4481640" y="38714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752480" y="0"/>
            <a:ext cx="59058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prstDash val="lgDashDotDot"/>
                  <a:miter/>
                </a:ln>
                <a:solidFill>
                  <a:srgbClr val="000000"/>
                </a:solidFill>
                <a:latin typeface="Arial Black"/>
              </a:rPr>
              <a:t>my favorite board game</a:t>
            </a:r>
            <a:endParaRPr b="0" lang="en-US" sz="1800" spc="1" strike="noStrike">
              <a:ln w="9360">
                <a:solidFill>
                  <a:srgbClr val="ffffff"/>
                </a:solidFill>
                <a:prstDash val="lgDashDotDot"/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5920" y="17600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95760" y="466308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oklahoma State fla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143000" y="457200"/>
            <a:ext cx="69246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 WAS BORN IN OKLAHOM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048120" y="6095880"/>
            <a:ext cx="35049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2,05,9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04920" y="3809880"/>
            <a:ext cx="22860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m am 1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09680" y="228600"/>
            <a:ext cx="4267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laces i've visite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" descr="Arkansas Fla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600200"/>
            <a:ext cx="3504960" cy="2209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Ohio Fla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11840" y="1600200"/>
            <a:ext cx="3511440" cy="2185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Missouri Fla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743200" y="3809880"/>
            <a:ext cx="3657600" cy="2133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7162920" y="3962520"/>
            <a:ext cx="838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hi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657600" y="5943600"/>
            <a:ext cx="1676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issouri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905120" y="380880"/>
            <a:ext cx="52671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y favorite color is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79680" y="21060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77880" y="2747880"/>
          <a:ext cx="5987880" cy="517680"/>
        </p:xfrm>
        <a:graphic>
          <a:graphicData uri="http://schemas.openxmlformats.org/drawingml/2006/table">
            <a:tbl>
              <a:tblPr/>
              <a:tblGrid>
                <a:gridCol w="5987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1587600" y="2757600"/>
          <a:ext cx="3136680" cy="2133360"/>
        </p:xfrm>
        <a:graphic>
          <a:graphicData uri="http://schemas.openxmlformats.org/drawingml/2006/table">
            <a:tbl>
              <a:tblPr/>
              <a:tblGrid>
                <a:gridCol w="3136680"/>
              </a:tblGrid>
              <a:tr h="213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1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                                                             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" descr="The Fighting Tigers LS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2209680" y="533520"/>
            <a:ext cx="46864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y favorite college football team</a:t>
            </a:r>
            <a:endParaRPr b="0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276720" y="4724280"/>
            <a:ext cx="236196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LSU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0" y="0"/>
            <a:ext cx="9144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prstDash val="sysDot"/>
                  <a:miter/>
                </a:ln>
                <a:solidFill>
                  <a:srgbClr val="000000"/>
                </a:solidFill>
                <a:latin typeface="Arial Black"/>
              </a:rPr>
              <a:t>my favorite sport is football</a:t>
            </a:r>
            <a:endParaRPr b="0" lang="en-US" sz="1800" spc="1" strike="noStrike">
              <a:ln w="9360">
                <a:solidFill>
                  <a:srgbClr val="ffffff"/>
                </a:solidFill>
                <a:prstDash val="sysDot"/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Troy Polamalu Pittsburgh Steelers - Backpedaling - 8x10 Autographed Photograph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371600" y="0"/>
            <a:ext cx="65628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y favorite football player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62120" y="380880"/>
            <a:ext cx="76197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my favorite class is computers with coach quillin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647712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Rob-Big-tv-0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152280" y="152280"/>
            <a:ext cx="51055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y favorite tv show is rob and big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8:02:36Z</dcterms:created>
  <dc:creator>JH Student</dc:creator>
  <dc:description/>
  <dc:language>en-US</dc:language>
  <cp:lastModifiedBy>JH Student</cp:lastModifiedBy>
  <dcterms:modified xsi:type="dcterms:W3CDTF">2009-09-08T18:19:01Z</dcterms:modified>
  <cp:revision>11</cp:revision>
  <dc:subject/>
  <dc:title>Slide 1</dc:title>
</cp:coreProperties>
</file>